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AB2-F6C0-4DA1-A645-DF74E3F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091-AFCE-4EB9-B4CC-5F78DC4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8D9-4763-4190-8437-C0027649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FC4-B314-4C2E-8490-56ED2573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232-11BE-475E-809C-FA8548B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44D-946A-4FA1-BC0E-A41E29C1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087-18D8-4F41-9150-D8C35CF2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FFD-21E8-4612-90E2-FC29DC84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976-36D9-4AC3-8F74-246CDC9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2F2-924A-4F53-A140-54C4871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005-8D9C-4266-BD21-0EC51E9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92C-41C7-4734-BA84-5BA37D9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8F35-68D2-497C-9B49-8001EAA7B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OP 2014-2020 - Stanje na področju izvaj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oljeZBesedilom 2"/>
          <p:cNvSpPr/>
          <p:nvPr/>
        </p:nvSpPr>
        <p:spPr>
          <a:xfrm>
            <a:off x="1108080" y="826920"/>
            <a:ext cx="534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tanje na področju izvajanja – na dan 9.11.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oljeZBesedilom 3"/>
          <p:cNvSpPr/>
          <p:nvPr/>
        </p:nvSpPr>
        <p:spPr>
          <a:xfrm>
            <a:off x="1108080" y="1754280"/>
            <a:ext cx="614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rgan upravljanja je v avgustu 2015 pričel s potrjevanjem ukrepov v okviru OP 2014-20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 seda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10 neposrednih potrditev operacij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2 javna razpis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hnična pomoč – v celo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aj dodeljenih 9,57% vseh razpoložljivih pravic pora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jeZBesedilom 1"/>
          <p:cNvSpPr/>
          <p:nvPr/>
        </p:nvSpPr>
        <p:spPr>
          <a:xfrm>
            <a:off x="870120" y="826920"/>
            <a:ext cx="53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tanje na področju izva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942840" y="141120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rednostna os 4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oljeZBesedilom 3"/>
          <p:cNvSpPr/>
          <p:nvPr/>
        </p:nvSpPr>
        <p:spPr>
          <a:xfrm>
            <a:off x="685800" y="1635120"/>
            <a:ext cx="6172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trjen JR „Celostne prometne strategije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ijavitelji: lokalne skupnos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3.750.00 EUR (od tega EU del 3.187.500 EU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delana CPS je pogoj za pridobitev sredstev za trajnostno mobilnost na javnih razpisih v prihodnj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Rok za oddajo prijav: 10.11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rednostna os 6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oljeZBesedilom 3"/>
          <p:cNvSpPr/>
          <p:nvPr/>
        </p:nvSpPr>
        <p:spPr>
          <a:xfrm>
            <a:off x="684360" y="215424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6" descr=""/>
          <p:cNvPicPr/>
          <p:nvPr/>
        </p:nvPicPr>
        <p:blipFill>
          <a:blip r:embed="rId1"/>
          <a:stretch/>
        </p:blipFill>
        <p:spPr>
          <a:xfrm>
            <a:off x="885960" y="2154240"/>
            <a:ext cx="6895800" cy="3349800"/>
          </a:xfrm>
          <a:prstGeom prst="rect">
            <a:avLst/>
          </a:prstGeom>
          <a:ln w="0">
            <a:noFill/>
          </a:ln>
        </p:spPr>
      </p:pic>
      <p:sp>
        <p:nvSpPr>
          <p:cNvPr id="573" name="PoljeZBesedilom 2"/>
          <p:cNvSpPr/>
          <p:nvPr/>
        </p:nvSpPr>
        <p:spPr>
          <a:xfrm>
            <a:off x="885960" y="145080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otrjenih 9 neposrednih potrditev operacij. Projekti imajo že izbrane izvajalce in so v veliki meri že v izvajanj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otrjeni ukrepi – PO 8 in PO 11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oljeZBesedilom 3"/>
          <p:cNvSpPr/>
          <p:nvPr/>
        </p:nvSpPr>
        <p:spPr>
          <a:xfrm>
            <a:off x="606600" y="1336680"/>
            <a:ext cx="690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eposredna potrditev operacije „Prvi izziv 2015“ (v okviru YEI-vzho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ičenec: Zavod za zaposlovanje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20.725.956 EUR (od tega EU del 18.425.375 EU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men: Subvencija za zaposlitev mladih do 29 let. Izvajanje v letih 2015-2018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4"/>
          <p:cNvSpPr/>
          <p:nvPr/>
        </p:nvSpPr>
        <p:spPr>
          <a:xfrm>
            <a:off x="689040" y="3819600"/>
            <a:ext cx="718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avni razpis za krepitev zmogljivosti NVO za zagovorništvo in izvajanje javnih storitev 2015-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kupna vrednost: 6.259.608 EUR (od tega EU del 5.007.686 EU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men:  Krepitev zmogljivosti NVO za zagovorništvo in izvajanje javnih storitev  v letih 2016-2019.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red potrditvijo: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606600" y="1380960"/>
            <a:ext cx="72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(končen obseg investicije in EU dela še ni določen) – PO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C Draženci Gruškovje v višini 63,5 mio EUR – PO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JR Prva zaposlitev na področju vzgoje in izobraževanja. Skupna vrednost 5.400.000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PO Izvajanje storitev za brezposelne, druge iskalce zaposlitve in delodajalce. Skupna vrednost 15.497.241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PO Krepitev svetovalnega dela z mladimi v ZRSZ. Skupna vrednost: 3.980.711 EUR – PO 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Veliki projekt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oljeZBesedilom 3"/>
          <p:cNvSpPr/>
          <p:nvPr/>
        </p:nvSpPr>
        <p:spPr>
          <a:xfrm>
            <a:off x="1011240" y="1081080"/>
            <a:ext cx="65851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AC Draženci – Gruškov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Ocenjena vrednost 250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U del: 63,5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osredovana na EK: 10.8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ejete pripombe:    28.10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ojekt v gradnji.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oljeZBesedilom 4"/>
          <p:cNvSpPr/>
          <p:nvPr/>
        </p:nvSpPr>
        <p:spPr>
          <a:xfrm>
            <a:off x="1073160" y="3632040"/>
            <a:ext cx="65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u="sng">
                <a:solidFill>
                  <a:srgbClr val="000000"/>
                </a:solidFill>
                <a:uFillTx/>
                <a:latin typeface="Calibri"/>
              </a:rPr>
              <a:t>Odvajanje in čiščenje odpadne vode na območju vodonosnika Ljubljanskega pol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dopolnjevanju glede na podane pripombe JASPERS. Predvideno posredovanje v potrditev december 2015 (IQR JASPERS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360" y="644400"/>
            <a:ext cx="79833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Predvidena dinamika izplačil iz INOP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1316160" y="1546200"/>
            <a:ext cx="651024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SVRK</cp:lastModifiedBy>
  <cp:lastPrinted>2015-11-09T11:31:02Z</cp:lastPrinted>
  <dcterms:modified xsi:type="dcterms:W3CDTF">2015-11-09T12:23:09Z</dcterms:modified>
  <cp:revision>29</cp:revision>
  <dc:subject/>
  <dc:title>PowerPoint Presentation</dc:title>
</cp:coreProperties>
</file>